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463E-E963-4370-9638-091636257E4E}"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A972-4F2D-4B8B-8265-C994BD29461E}"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A7A3-98CD-4077-A7D3-0133D4B6EC0E}"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2151-270B-4330-BD78-3ECD89E92F72}"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2725-310D-47D3-BC0E-3D1B7D11D34D}"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4D03-C1CF-42D9-80DD-C07FB3D515A6}"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2EC36-A0BA-41FC-9ECB-0C77B96B8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81894-7A9B-4464-991A-7502FE7F1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05372-0F12-4BE5-933C-B3F26E074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E83D3-CD5C-4A81-BFA6-20E0DE922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B2AD5-40CB-451D-AC87-A4BEFD267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BC5B7-05B9-42B8-A5D3-07B8E4897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0179B-95E6-485C-A67A-3D2E95EF3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137FC-3ABC-41A5-B598-3470AE83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71A22-19E0-48BF-B8BD-BBF5958E7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B72F9-4DE0-4B98-94A2-E933E1F0F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6BC8F-140C-4C6A-86FD-A05B531FB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D03C-A8BE-4B85-888E-2D6684FD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88BB9-0878-457B-AE3C-B1A4B4A10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175F-7D04-4738-8829-2B18373F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BF812-75A4-4262-B7B1-5DDF566CD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E548B-8779-4B4E-9708-936C67F90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E7F25-7BD8-46A3-9D4E-71917B1F6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2E99F-AD34-4E04-A305-2551434E6A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B625F-DF31-4CE6-82E7-CB5746F6E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CB178-CB4C-400D-8B81-50B965C0C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8C374-09D4-4A7C-9804-4622C5767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BD2A5-A667-43FC-B8DB-110382C54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E1370-F6E6-4179-91C5-1FDEBC12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172F5-C792-40D3-8DF9-8B1E72FF2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1FF7C-AE9E-49BA-8988-2770CE4B6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929FF-582A-44AF-A69B-0F9B4A91E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A00CC-A916-4E8D-B324-CD20F95E7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2725A4-8440-4A12-B9E4-EE1FCC537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0623E-3488-4B52-A385-F08F99FD14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768CD-1692-4FD7-833A-B6D9501762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A1DDA-7F4F-4926-A59E-5C7C15637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E0921-38FD-4A86-80E3-36D3EAB17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A8B71-30E2-4359-B92D-5F6645BFF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E543-5D1C-47E2-A508-A41D50BA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86AF2-16A2-4517-BFBB-419242372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4257E-F9EC-478F-8041-9ADB46C78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717A6-5C24-4028-96A7-B40BBEF40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D036C-3D66-437E-8616-272F5F25F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2CC74-B86D-42F5-8BE9-8E1651AC1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353EE-CE27-4BB3-BE2D-19067DA9B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5462D-3242-4F06-BAA5-096276899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66EBC-33E6-4E5C-A57D-59752CE842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ED5222-710B-4C6B-AF34-0832BD7843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E0A2C4-62FD-4B56-94E3-4CB181C691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7A35-86A2-4E8F-B88A-0657AB5C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16312-BBCD-4385-A85E-22149EFFE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E2DEB-8573-4227-86D2-A490DB837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8D6FC-1A95-46F5-B920-BA1F0A330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6F904-1D78-4939-8B63-5D6573595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F830A-C32B-477B-BC07-CD63390C2C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DE479-821D-4D0A-8C9B-EB6696A87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CE290-5BE9-4FF1-946C-278D38663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31E17-1681-43EE-B286-35253CE38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73349-B48E-431F-96AC-3D753261F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C59A7F-7FA9-4335-B4A8-ACDDDE583B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AE59-152F-4C31-BB05-4ADE58B9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C9E6E2-BC67-415E-B9B7-86FD717E83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A423-5297-4F25-8677-13F16CC4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EB4CE-CAD4-40CF-93C7-C4065E494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E1CA-5D78-4700-9458-4CA1C88E2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A3F3-8F6A-47C5-9080-573E6F822311}"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D106-6964-42F2-BCD0-D2724300E318}"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4FAF-31FA-49C9-8CAA-AF0A57A85DDF}"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805C-F11F-452C-B3F9-BC7AABA10C19}"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FB1F-8D84-439A-ABF1-C119FDAC08E0}"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Juan1.doc</cp:lastModifiedBy>
  <dcterms:modified xsi:type="dcterms:W3CDTF">2012-07-26T00:38:39Z</dcterms:modified>
  <cp:revision>22</cp:revision>
  <dc:subject/>
  <dc:title>Slide 1</dc:title>
</cp:coreProperties>
</file>